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8F8C-EBB6-420B-8D14-438291F8D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B574-E8CC-4459-A329-6A6F56F32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844C-1C19-4CBB-897F-661FFE2F04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44FD-F3C6-4902-AC95-FBC018272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BFDE-6D74-45BD-B4CC-3FC3F331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ADF6-BC9E-4323-BDB2-1E9D2D3E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663B-4BD7-4ECD-9621-A4D90C61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71F2-95B8-4807-94F0-E31FE4CB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9943-8D6B-45A8-8098-9AB4E50F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7FFD-E8CB-4161-84A2-6F2C35C6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DB0A-08B5-4EEF-8810-684B52AA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73E2-D566-4FCC-A272-F1D3E518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5CF-2566-4869-962E-A3C8AB36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2B47-B35C-4767-B8BB-17B33DA7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FDE4-8EE2-406F-BB34-5794C30A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7C0F-0C0F-448E-AD8C-B6F71719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B397-9749-4FF5-8BF6-681B5165E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bellcountyteachers.wikispaces.com/" TargetMode="External"/><Relationship Id="rId2" Type="http://schemas.openxmlformats.org/officeDocument/2006/relationships/hyperlink" Target="http://cabellcountyteachers.wikispaces.com/DI+Lessons+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281470"/>
                </a:solidFill>
                <a:uFillTx/>
                <a:latin typeface="Calibri"/>
              </a:rPr>
              <a:t>Differentiated Instruc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432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1470"/>
                </a:solidFill>
                <a:latin typeface="Calibri"/>
              </a:rPr>
              <a:t>Lezlie Bar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1470"/>
                </a:solidFill>
                <a:latin typeface="Calibri"/>
              </a:rPr>
              <a:t>Curriculum Supervisor Cabell County Sch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1470"/>
                </a:solidFill>
                <a:latin typeface="Calibri"/>
              </a:rPr>
              <a:t>lbarton@access.k12.wv.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C:\Documents and Settings\CCS\Local Settings\Temporary Internet Files\Content.IE5\078GTOUO\MPj04371850000[1].jpg"/>
          <p:cNvPicPr/>
          <p:nvPr/>
        </p:nvPicPr>
        <p:blipFill>
          <a:blip r:embed="rId1"/>
          <a:stretch/>
        </p:blipFill>
        <p:spPr>
          <a:xfrm>
            <a:off x="301680" y="1828800"/>
            <a:ext cx="3660840" cy="3657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4267080" y="266688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81470"/>
                </a:solidFill>
                <a:latin typeface="Arial"/>
              </a:rPr>
              <a:t>Instruction created to help our students to live and learn in our 21</a:t>
            </a:r>
            <a:r>
              <a:rPr b="0" i="1" lang="en-US" sz="2400" spc="-1" strike="noStrike" baseline="30000">
                <a:solidFill>
                  <a:srgbClr val="281470"/>
                </a:solidFill>
                <a:latin typeface="Arial"/>
              </a:rPr>
              <a:t>st</a:t>
            </a:r>
            <a:r>
              <a:rPr b="0" i="1" lang="en-US" sz="2400" spc="-1" strike="noStrike">
                <a:solidFill>
                  <a:srgbClr val="281470"/>
                </a:solidFill>
                <a:latin typeface="Arial"/>
              </a:rPr>
              <a:t> century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0" y="0"/>
            <a:ext cx="914400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roadway"/>
              </a:rPr>
              <a:t>Expectations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iated lessons  provide clear and concise directions to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t is important to communicate to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they ar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N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DERSTA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ear expectations = Bette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www.wark.csiro.au/library/gifs/compass.gif"/>
          <p:cNvPicPr/>
          <p:nvPr/>
        </p:nvPicPr>
        <p:blipFill>
          <a:blip r:embed="rId1"/>
          <a:stretch/>
        </p:blipFill>
        <p:spPr>
          <a:xfrm>
            <a:off x="380880" y="3048120"/>
            <a:ext cx="221004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0" y="0"/>
            <a:ext cx="9144000" cy="74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roadway"/>
              </a:rPr>
              <a:t>Ways to Differentiate</a:t>
            </a: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ke students themselves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iation has lots of divers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Teachers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Respectful tasks, Flexible Groups, and Continual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To Differentiat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ont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Lesson materia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Teaching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roduc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Demonstration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Environ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Classroom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According to Students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Readin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earning prof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www.mediabistro.com/agencyspy/original/Diversity_Matters_photo_without_wording__.jpg"/>
          <p:cNvPicPr/>
          <p:nvPr/>
        </p:nvPicPr>
        <p:blipFill>
          <a:blip r:embed="rId1"/>
          <a:stretch/>
        </p:blipFill>
        <p:spPr>
          <a:xfrm>
            <a:off x="0" y="0"/>
            <a:ext cx="25909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1066680" y="1600200"/>
            <a:ext cx="2210040" cy="838080"/>
          </a:xfrm>
          <a:prstGeom prst="rect">
            <a:avLst/>
          </a:prstGeom>
          <a:solidFill>
            <a:srgbClr val="3399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066680" y="5410080"/>
            <a:ext cx="2210040" cy="1067040"/>
          </a:xfrm>
          <a:prstGeom prst="rect">
            <a:avLst/>
          </a:prstGeom>
          <a:solidFill>
            <a:srgbClr val="cc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066680" y="3429000"/>
            <a:ext cx="22100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410080" y="1600200"/>
            <a:ext cx="3276720" cy="50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asks are a close match for thei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asks ignite curiosity or pa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assignment encourages students to work in a preferred m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3505320" y="19810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3429000" y="37339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3429000" y="59436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685800" y="228600"/>
            <a:ext cx="7848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ning a DI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planning a DI lesson, teachers must decide whether to base the lesson on a student’s readiness, interest, or learning pro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3152">
            <a:alpha val="6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458640"/>
            <a:ext cx="7772400" cy="1143000"/>
          </a:xfrm>
          <a:prstGeom prst="rect">
            <a:avLst/>
          </a:prstGeom>
          <a:solidFill>
            <a:srgbClr val="ccc1da"/>
          </a:solidFill>
          <a:ln w="7632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er Profile C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838080" y="2079720"/>
            <a:ext cx="7543800" cy="386388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295280" y="259236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Auditory, Visual, Kinesthe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Mod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371600" y="4497480"/>
            <a:ext cx="358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ltiple Intelligence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Gard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257800" y="259236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029200" y="259236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419720" y="2592360"/>
            <a:ext cx="3200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Analytical, Creative, Prac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Sternbe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9"/>
          <p:cNvSpPr/>
          <p:nvPr/>
        </p:nvSpPr>
        <p:spPr>
          <a:xfrm>
            <a:off x="3200400" y="3125880"/>
            <a:ext cx="2590920" cy="1293840"/>
          </a:xfrm>
          <a:prstGeom prst="ellipse">
            <a:avLst/>
          </a:prstGeom>
          <a:gradFill rotWithShape="0">
            <a:gsLst>
              <a:gs pos="0">
                <a:srgbClr val="eeece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3429000" y="350676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660066"/>
                </a:solidFill>
                <a:uFillTx/>
                <a:latin typeface="Arial"/>
              </a:rPr>
              <a:t>Student’s Inte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6445080" y="4675320"/>
            <a:ext cx="11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1343160" y="2087640"/>
            <a:ext cx="314316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4478400" y="2087640"/>
            <a:ext cx="3182760" cy="3808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2971800" y="20541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der Str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457200" y="274680"/>
            <a:ext cx="82296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Arial"/>
              </a:rPr>
              <a:t>Unit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04920" y="609480"/>
          <a:ext cx="8381880" cy="612792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EQ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le 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i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905120" y="609480"/>
          <a:ext cx="1191960" cy="6096240"/>
        </p:xfrm>
        <a:graphic>
          <a:graphicData uri="http://schemas.openxmlformats.org/drawingml/2006/table">
            <a:tbl>
              <a:tblPr/>
              <a:tblGrid>
                <a:gridCol w="1191960"/>
              </a:tblGrid>
              <a:tr h="60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ed Lesson Du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2819520" y="152280"/>
            <a:ext cx="335268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i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380880" y="533520"/>
            <a:ext cx="838224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a teacher’s response to learners’ needs, guided by general principles of differen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04920" y="1828800"/>
            <a:ext cx="2463840" cy="398880"/>
          </a:xfrm>
          <a:prstGeom prst="rect">
            <a:avLst/>
          </a:prstGeom>
          <a:solidFill>
            <a:srgbClr val="99ffcc"/>
          </a:solidFill>
          <a:ln w="9360">
            <a:solidFill>
              <a:srgbClr val="330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aff"/>
                </a:solidFill>
                <a:latin typeface="Times New Roman"/>
              </a:rPr>
              <a:t>Respectful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048120" y="1863720"/>
            <a:ext cx="2743200" cy="398880"/>
          </a:xfrm>
          <a:prstGeom prst="rect">
            <a:avLst/>
          </a:prstGeom>
          <a:solidFill>
            <a:srgbClr val="99ffcc"/>
          </a:solidFill>
          <a:ln w="9360">
            <a:solidFill>
              <a:srgbClr val="330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aff"/>
                </a:solidFill>
                <a:latin typeface="Times New Roman"/>
              </a:rPr>
              <a:t>Flexible grou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967360" y="1863720"/>
            <a:ext cx="2795760" cy="398880"/>
          </a:xfrm>
          <a:prstGeom prst="rect">
            <a:avLst/>
          </a:prstGeom>
          <a:solidFill>
            <a:srgbClr val="99ffcc"/>
          </a:solidFill>
          <a:ln w="9360">
            <a:solidFill>
              <a:srgbClr val="330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aff"/>
                </a:solidFill>
                <a:latin typeface="Times New Roman"/>
              </a:rPr>
              <a:t>Continual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209680" y="2819520"/>
            <a:ext cx="449604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 Can Differentiate Throug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838440" y="3962520"/>
            <a:ext cx="98676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2971800" y="3886200"/>
            <a:ext cx="113508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4876200" y="3886200"/>
            <a:ext cx="97488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6778800" y="3886200"/>
            <a:ext cx="151272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3200400" y="4572000"/>
            <a:ext cx="277488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ording to Student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1295280" y="5486400"/>
            <a:ext cx="17272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3429000" y="5562720"/>
            <a:ext cx="15238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5410080" y="5486400"/>
            <a:ext cx="27180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rning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 flipH="1">
            <a:off x="1523520" y="1523880"/>
            <a:ext cx="48276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8"/>
          <p:cNvSpPr/>
          <p:nvPr/>
        </p:nvSpPr>
        <p:spPr>
          <a:xfrm>
            <a:off x="6705720" y="1512720"/>
            <a:ext cx="533160" cy="316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9"/>
          <p:cNvSpPr/>
          <p:nvPr/>
        </p:nvSpPr>
        <p:spPr>
          <a:xfrm>
            <a:off x="4419720" y="149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0"/>
          <p:cNvSpPr/>
          <p:nvPr/>
        </p:nvSpPr>
        <p:spPr>
          <a:xfrm flipH="1">
            <a:off x="3276360" y="320040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1"/>
          <p:cNvSpPr/>
          <p:nvPr/>
        </p:nvSpPr>
        <p:spPr>
          <a:xfrm>
            <a:off x="4724280" y="320040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2"/>
          <p:cNvSpPr/>
          <p:nvPr/>
        </p:nvSpPr>
        <p:spPr>
          <a:xfrm flipH="1">
            <a:off x="1371600" y="3200400"/>
            <a:ext cx="1447920" cy="723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3"/>
          <p:cNvSpPr/>
          <p:nvPr/>
        </p:nvSpPr>
        <p:spPr>
          <a:xfrm>
            <a:off x="6477120" y="3200400"/>
            <a:ext cx="1195200" cy="654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23"/>
          <p:cNvCxnSpPr/>
          <p:nvPr/>
        </p:nvCxnSpPr>
        <p:spPr>
          <a:xfrm flipH="1">
            <a:off x="2513880" y="4952880"/>
            <a:ext cx="686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" name="Straight Arrow Connector 24"/>
          <p:cNvCxnSpPr>
            <a:stCxn id="90" idx="2"/>
          </p:cNvCxnSpPr>
          <p:nvPr/>
        </p:nvCxnSpPr>
        <p:spPr>
          <a:xfrm flipH="1">
            <a:off x="4450680" y="4978440"/>
            <a:ext cx="13716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" name="Straight Arrow Connector 25"/>
          <p:cNvCxnSpPr/>
          <p:nvPr/>
        </p:nvCxnSpPr>
        <p:spPr>
          <a:xfrm>
            <a:off x="5943600" y="4952880"/>
            <a:ext cx="5342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bell County Schools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cabellcountyteachers.wikispaces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omputercartoon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2209680"/>
            <a:ext cx="419112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Broadway"/>
              </a:rPr>
              <a:t>Questions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Broadway"/>
              </a:rPr>
              <a:t>Comments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1470"/>
                </a:solidFill>
                <a:latin typeface="Arial"/>
              </a:rPr>
              <a:t>Lezlie Bar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1470"/>
                </a:solidFill>
                <a:latin typeface="Arial"/>
              </a:rPr>
              <a:t>Curriculum Supervisor Cabell County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1470"/>
                </a:solidFill>
                <a:latin typeface="Arial"/>
              </a:rPr>
              <a:t>lbarton@access.k12.wv.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21:48:17Z</dcterms:created>
  <dc:creator>WVDE</dc:creator>
  <dc:description/>
  <dc:language>en-US</dc:language>
  <cp:lastModifiedBy>Lenovo User</cp:lastModifiedBy>
  <dcterms:modified xsi:type="dcterms:W3CDTF">2011-03-17T19:49:36Z</dcterms:modified>
  <cp:revision>93</cp:revision>
  <dc:subject/>
  <dc:title>Slide 1</dc:title>
</cp:coreProperties>
</file>